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D22-5305-494C-97E8-D79EF40E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E9E2-D14F-4239-8A46-1B88F397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6C1-0D6B-4327-A3C7-D5636B87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C424-A507-42E7-99CF-99390F80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4244-840E-4F83-9989-7693B809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609-B85E-4A77-8074-E6E66E15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613-FFF1-417F-A11A-3B3FDFEC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17C-4DB1-40E7-B267-DFE6A803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EB62-96A1-451F-8E59-8F8E4EAF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CBF3-5A09-44AC-8D78-D731F138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A62-CFA2-4EE6-85EF-49969123E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B7A-FE8E-405E-9ACC-C527DCD1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664-22B4-4B9F-BDF4-E512167B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A44-367E-415B-B822-28EE3098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F082-7098-480E-863C-BBB0E44B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D258-C029-410C-8835-B5DE5BF8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39B8-F827-455C-8DA2-DC51700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4EB6-9345-4AB9-964A-99F03C4B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BAC7-361B-43F5-ADE2-6604435F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1344-FCE3-4EEA-B570-2CEA726B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C500-1237-4A77-96A8-5ED727E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A2A-DA40-4E54-BD26-662E4CBC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8F41-E66D-444B-89F4-9776E98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6B96-3EFD-4F7F-B078-8B2CDE15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BA7-4AF0-4037-841D-73B3EE3C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A6C1-B1E9-4882-89B0-3FE1176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2838-CD9B-446C-9AD9-10336D2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F13-0F35-40B1-8980-E2CA0F70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512A-BB45-4E0B-ADB5-3A49548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E5C-C9D8-4173-A216-D4A371C7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9A90-4331-45CA-88A6-3F37698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1292-C03A-46BE-9486-9F128FE2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6A65-56BA-4FA6-A6B5-11BA98B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83C9-EA55-49A1-A9F6-0CA2D26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6604-81B1-4453-8A24-35F847B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5124-7FF0-41C8-BFA8-B2667EA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3E06-9030-4DB9-BAC1-4D47A7F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9F1D-C9F0-49BA-B413-5D6D582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5572-48DE-44BA-922C-B7A2103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9F0-144C-42D8-ACCC-F1EBD43E2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27AC-E2AC-44C8-9268-FCA627815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02E Adding Sounds int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uter Animations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666880" y="4572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Importing Sound Fi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7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iles are usually imported into the animation much like image fi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7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imation programs require or recommend that each sound object be inserted on its own lay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ound"/>
          <p:cNvPicPr/>
          <p:nvPr/>
        </p:nvPicPr>
        <p:blipFill>
          <a:blip r:embed="rId1"/>
          <a:stretch/>
        </p:blipFill>
        <p:spPr>
          <a:xfrm>
            <a:off x="6477120" y="3276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572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Importing Sou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nimation is for a Web site, keep the overall file size small for faster downloads by using more compact MP3 files and looping a shorter sound seg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ther hand, if the animation is part of a presentation delivered in an auditorium equipped with a high-quality audio system, use the highest quality sound fil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reating or choosing the sounds to include in the animation, keep the intended purpose of the animation in m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uditorium"/>
          <p:cNvPicPr/>
          <p:nvPr/>
        </p:nvPicPr>
        <p:blipFill>
          <a:blip r:embed="rId1"/>
          <a:stretch/>
        </p:blipFill>
        <p:spPr>
          <a:xfrm>
            <a:off x="5029200" y="1905120"/>
            <a:ext cx="3754440" cy="4647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12760" y="417600"/>
            <a:ext cx="588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1219320"/>
            <a:ext cx="449568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2860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Guidelines for Using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 order to avoid a violation of copyright law, only original music can be used in professional productions such as Web animations and presen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there is a large number of inexpensive programs that combine sound loops to create original, royalty-free music for animations and mov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1677240" y="68580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Copyr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ounds into Computer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ound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ing s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ound i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iles can be used to enhance an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c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ound unless it enhances the animation. If the sound is distracting and irrelevant to the animation, do not us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ound File Forma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 File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imation and video programs enable sound files to be imported in at least two forma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files have the highest quality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WAV (Wave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format for sound on computers running the Windows opera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 files produce high-quality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large file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avFileView"/>
          <p:cNvPicPr/>
          <p:nvPr/>
        </p:nvPicPr>
        <p:blipFill>
          <a:blip r:embed="rId1"/>
          <a:stretch/>
        </p:blipFill>
        <p:spPr>
          <a:xfrm>
            <a:off x="5486400" y="4191120"/>
            <a:ext cx="26478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andard format for music files sent over the Internet that compresses music or other types of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ression process removes sounds that humans cannot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st listeners, MP3 files sound as good as WAV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AKTHHW7"/>
          <p:cNvPicPr/>
          <p:nvPr/>
        </p:nvPicPr>
        <p:blipFill>
          <a:blip r:embed="rId1"/>
          <a:stretch/>
        </p:blipFill>
        <p:spPr>
          <a:xfrm>
            <a:off x="5181480" y="289548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AGDU7O5"/>
          <p:cNvPicPr/>
          <p:nvPr/>
        </p:nvPicPr>
        <p:blipFill>
          <a:blip r:embed="rId2"/>
          <a:stretch/>
        </p:blipFill>
        <p:spPr>
          <a:xfrm>
            <a:off x="5943600" y="1143000"/>
            <a:ext cx="2362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Recording Sound Fi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Recording Sound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can be recorded or captured from a variety of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record your voice using a microphone that is connected to the computer’s sound c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connect a device such as a CD player, MP3 player, or tape player to the sound card Line-in jack to record CD audio or other pre-recorded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tion software allows you to record narration without having to create the sound in a separat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Recording Soun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cording, be aware that sound files tend to be l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ound files will increase the size of the finished animation which means the animation will take longer to download and require more storage sp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ound files as small as possible while maintaining sufficient quality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WAV files at a lower quality set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cording or conversion software that will save the sound file in a compressed format such as MP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46:52Z</dcterms:created>
  <dc:creator>tcunning</dc:creator>
  <dc:description/>
  <dc:language>en-US</dc:language>
  <cp:lastModifiedBy>Preferred User</cp:lastModifiedBy>
  <dcterms:modified xsi:type="dcterms:W3CDTF">2011-04-21T00:11:53Z</dcterms:modified>
  <cp:revision>45</cp:revision>
  <dc:subject/>
  <dc:title>4.Record a sound file</dc:title>
</cp:coreProperties>
</file>